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97F-A7BB-4902-B9F3-6A692CD6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358-32D2-49DE-9BA2-7D70AA23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075-A86F-4D16-B3A2-EB7F2BBB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F47-46E8-41BE-A749-183D4E37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146-77F5-4371-A090-E55ED0D0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34E-EFE8-4D46-8885-58884831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831-CCDA-4B91-9237-6D359B35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491-D6E9-479B-A602-5066BA07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A27-DC28-44A5-B9B9-018A132F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4AB-F223-47A6-9F51-16571DBD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31D-D622-4BD1-AC4A-6D3AF3FC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C66-9518-40A0-9012-52AE9190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4053-64F8-48FB-9B8C-DBD93CFAB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betv.co.uk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presentation of culture/ethnic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arning Objectiv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uild notes on representations of Ethn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How much do we know about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do-Asian cult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 the UK we define anyone from what is known as the ‘Indian sub-continent’ as being Asian. In the US, Asians are those from oriental Asia (China, Japan, Korea et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nations make up the Indian sub-contin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d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kistan( which was part of India until 19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nglade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cuss: How could you tell the difference between people of these n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ysical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dian sub-continent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is Karach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religion is this a symbol o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country used to be known as Ceyl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is the cricketer Sachin Tendulkar fr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UK city has the highest concentration of UK A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do they speak Punjab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which country are most of the UK owners of Indian restaurants fr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is a samo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meat are Muslims forbidden to e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Indian weddings what is the dow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ic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astry with a veg or meat f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ney given to the bride’s family from the groom’s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/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thn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cuss these questions with your part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meant by ethnicit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the difference between nationality and ethni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your ethni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re people within the same ethnic group the same in all ways? Are their different “type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thnici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 cultural distinctiveness based on a number of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w is Ethnicity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hat contributes to a person’s ethnicity? A combination of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lour of sk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a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ultural specifics- food, clothing, cust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thnicity is a complex issue – it involves more than just place of birth or colour of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ewham has more than 150 languages spoken in it. However language is just one way to breakdown culture as many languages are spoken within one country or cul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nicity and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thnic Niche markets’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he media providing for a specific ‘niche’ market 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thn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ok at this example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OBE TV - YOUR CHANNEL OF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n you list some other media products/channels that are specifically targeting their audience based on ethnicity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ow ethnically diverse is the mainstream British medi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xample: 1Xtra is the BBCs attempt at targeting a smaller niche market or is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ians in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sian community in the UK are well represented on television, particularly in broadcast news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735280" cy="153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19640" y="3284640"/>
            <a:ext cx="1758960" cy="2338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2592360" cy="2495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2004840" cy="171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932360" y="4581360"/>
            <a:ext cx="1608120" cy="206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4360" y="4292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jesh Mirchend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292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orge Alagi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6093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rtin Bash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z La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306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rishnan Gurumurt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Asians in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588000" y="3141720"/>
            <a:ext cx="2232000" cy="1488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68360" y="1268280"/>
            <a:ext cx="1595520" cy="244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95640" y="6165720"/>
            <a:ext cx="43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508640"/>
            <a:ext cx="3600360" cy="20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n you name any other Asians in the m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at reasons can you give for there being fewer ‘Asian popstars’or act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788000" y="1341360"/>
            <a:ext cx="166212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940360" y="4581360"/>
            <a:ext cx="1590840" cy="212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948360" y="1197000"/>
            <a:ext cx="15415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ians in the media continu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uld be said that Asians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nder-represen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other areas of the media notably, film and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us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ilms can you name that feature Asian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many UK Asian musical artists can you name?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Asian stereoty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1673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ome of common Asian stereotyp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working and stud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siness mi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ong sense of family- close k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at Maths (and crick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ney/status orient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gious/m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ranged marri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ssive (except for terrori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scus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an you name some media examples where these stereotypes are evid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256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‘Apu’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aracter of Apu in the Simpsons divides opinion particularly amongst the Asian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ch this clip and then discuss his representation as an Asian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Simpsons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gets a way with it because it’s an animation and it uses exaggerated stereotypes to create humour (Chief Wiggum and the police, Krusty and Jewish). However the issue is whether non-Asian audiences are laughing at the character's ‘Asianess’ or at the ‘clever’ use of stereotyp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3:07:06Z</dcterms:created>
  <dc:creator>gokul</dc:creator>
  <dc:description/>
  <dc:language>en-US</dc:language>
  <cp:lastModifiedBy>Administrator</cp:lastModifiedBy>
  <dcterms:modified xsi:type="dcterms:W3CDTF">2009-09-25T07:30:26Z</dcterms:modified>
  <cp:revision>31</cp:revision>
  <dc:subject/>
  <dc:title>Representation In Soap Opera</dc:title>
</cp:coreProperties>
</file>